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97E-EABC-43D9-AACC-9C659309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B35-2DC2-499D-9411-30E10B89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A71-1140-42C6-B294-327E7D14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6F3-C137-4682-BBA6-CB0A36C4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D23-FFB8-4DD1-B5C5-B4C9DA45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3ED-CB80-464F-B668-C1642207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E93-D4C9-486E-9785-6E26071A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F58-7E34-45AD-BDBA-C05601C6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527-ED31-4602-949F-0E3ED122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B06-D2E4-4090-994F-E16C312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DE2-DA6B-4589-BD81-7EEA034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A61-E3FA-4622-AACA-2CA8083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F9C1-4CC6-49C1-BFBD-58B4CADEA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91120" y="762120"/>
          <a:ext cx="723960" cy="73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762120"/>
                    <a:ext cx="7239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1523880"/>
          <a:ext cx="6333840" cy="55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523880"/>
                    <a:ext cx="63338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280" y="2538360"/>
          <a:ext cx="8915400" cy="2109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538360"/>
                    <a:ext cx="89154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447920" y="5872320"/>
          <a:ext cx="6249960" cy="19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872320"/>
                    <a:ext cx="6249960" cy="1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B4B-E725-42B9-B097-1FFA34A4CB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609480"/>
            <a:ext cx="51055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uti lavorativi settore ope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95560" y="2362320"/>
            <a:ext cx="4048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ministrazione dei b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zione e concessione di beni immo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o riscossione prov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lascio nulla osta per locazioni pa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gna e dismissione di beni immo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gil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t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vori di somma urg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tenzione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tenzione straordinaria, resta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trutturazione, nuova ed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or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ulenze tecn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2560" y="2819520"/>
            <a:ext cx="3067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quisto di beni immo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quisizione di b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endita di beni immo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m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rasferimento di beni immo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estione veicoli confisc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estione beni confisc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ienazione di beni mo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demanial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280" y="164952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SIZIONI E ALIEN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48120" y="16606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STIONE E CONSUL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B3E-2A15-4F7C-B020-2759A1E7AA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858960"/>
            <a:ext cx="51055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i di organizzazione del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031840"/>
            <a:ext cx="7924680" cy="33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9536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grazione delle attività per process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9536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viluppo di figure polivalenti e sulla promozione del lavoro in “team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9536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rtecipazione e attivazione temporanea e volta ad obiettivi specifici di team di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1CF-35DF-480C-AF7C-D6F195BD81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858960"/>
            <a:ext cx="51055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uliarità delle Se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031840"/>
            <a:ext cx="7924680" cy="33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57456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vità operative prevalentemente rivolte al sett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stione e Consul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57456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nza di area gestion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57456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i gestionali di competenza (molto ridotte) sotto la responsabilità del responsabile di S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588-87FA-4ACE-A1FA-CD1EF88046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9960" y="380880"/>
            <a:ext cx="7711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esigenza di ottimizzazione gestionale con decorrenza d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° luglio 200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numero delle Filiali è stato portato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numero delle Sezioni dipendenti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difiche riguardano l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asformazione della Filiale di Roma 2 in due Filiali: Viterbo (con sezione in Rieti) e Latina (con sezione in Frosinon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ol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419720"/>
            <a:ext cx="83818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96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sezione di Taranto è passata dalla Filiale di Lecce a quella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96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sezione di Vercelli e la competenza sul territorio della provincia di Verbania sono passati dalla Filiale di Alessandria alla Filiale di Tori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13B-7C50-4461-A1DA-3C03AF5D96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858960"/>
            <a:ext cx="51055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r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zione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09680"/>
            <a:ext cx="769608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Filiali sono state classificate in 3 categorie (A, B e C) in relazione alle seguenti varia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i gestiti (60%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o di sezioni 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o del personale non dirigente (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levanza socio-economica del territorio (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69B-FC32-4A0B-A0E2-01B532968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858960"/>
            <a:ext cx="57913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r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zione delle Filiali per tip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057400"/>
            <a:ext cx="82296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57080" indent="-299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Filiali di tipologia A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i, Bergamo, Bologna, Firenze, Genova, Livorno, Messina, Milano, Modena, Napoli, Palermo, Roma, Torino, Udine, Venezia, Veron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9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Filiali di tipologia B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essandria, Ancona, Cagliari, Campobasso, Catanzaro, L'Aquila, Latina, Lecce, Matera, Perugia, Pescara, Reggio Calabria, Salerno, Sassari, Viterb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9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Filiali di tipologia C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sta, Bolzano, Tr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534-2921-4433-BD28-2B92D514BF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762120"/>
            <a:ext cx="312408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logi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67440" cy="390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D80-19DB-41F3-B771-ABB75EC7C7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838080"/>
            <a:ext cx="297180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logi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238880" cy="258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EBE-CCFF-4728-9F42-E59D09740A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838080"/>
            <a:ext cx="274320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logi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2957400" cy="265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353-FB3B-4056-9052-D7D555D8FA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858960"/>
            <a:ext cx="57913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r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tture periferiche di ver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8229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827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attuazione dell’art. 6 del Regolamento d’Amministrazione dell’Agenzia sono state individuate dal Direttore dell’Agenzia, in base ai criteri previsti di rilevanza dei beni e del valore socio-economico, due strutture periferiche di verti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335-0BD5-4C6F-B9B9-5B5804E92E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19320" y="2298600"/>
            <a:ext cx="37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858960"/>
            <a:ext cx="51055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36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uti lavorativi settore gest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2120" y="4572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organizzativo delle Fil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371600"/>
            <a:ext cx="769644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3812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acqu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3812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piccola cas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3812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3812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ollo di gest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3812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sistemi informa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3812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greteria dell’ufficio di Direzione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corrispondenza e protocollo, agenda e contatti dell’ufficio di direzione, redazione lettere e documenti per l’ufficio di direzi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381240">
              <a:lnSpc>
                <a:spcPct val="136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logistica e servizi general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come: riproduzioni, centralino, automezzi,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14F-4E7D-4809-B4A6-A2827A9784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13:07:34Z</dcterms:created>
  <dc:creator>Lambarelli</dc:creator>
  <dc:description/>
  <dc:language>en-US</dc:language>
  <cp:lastModifiedBy>CONSIEL</cp:lastModifiedBy>
  <cp:lastPrinted>2001-06-18T11:11:40Z</cp:lastPrinted>
  <dcterms:modified xsi:type="dcterms:W3CDTF">2001-07-05T07:03:59Z</dcterms:modified>
  <cp:revision>18</cp:revision>
  <dc:subject/>
  <dc:title>Nessun titolo diapositiva</dc:title>
</cp:coreProperties>
</file>